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45B9-2ACE-40B5-B933-0A6AD1E6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B750-80C8-478F-9E11-4EC24DE2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03E4-CEC2-4E1B-B716-90C22D56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0B1-9354-4CA6-9CE6-1C330B31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ED3E-E8C7-4463-8F3C-647C3BC0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309F-2A21-4D17-A080-0482A32E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222D-AA79-4C12-A9A2-B10CA4A5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AB6A-0E6D-4122-A013-D77A6710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3585-0772-4059-B587-082C59D7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BEB0-5D1C-433D-A9D4-BDDAA3CB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F681-CDFB-47CC-9FA0-474241E3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77F-2D9C-40E9-90FB-2DCC7229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134B-578F-473D-B287-3840AEF6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1236-CE54-4B64-A3BD-E2ED5F09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F5A3-8C80-4AD0-BD4A-E7A43B02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598C-1EAD-4C6D-87F0-6C9EF60F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E01D-B65D-41BA-A114-F7C05194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2AD-C1E5-45DE-B328-392B33E5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1689-FB1D-4052-B5C6-903D38C5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DBFF-4010-4506-9E11-0F97A69E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1A87-DCAD-40B9-9921-57ECB701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67C6-AB40-40D5-B6DE-FDB745A7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069B-B8BC-4D49-8ACE-20E49536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B1C4-FBA8-4DDB-B4C5-82928691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D162-65CD-4F6C-A0D5-C295D7D9099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D22E-FE1C-47E2-8453-587CF888DD0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quia.com/rr/520440.html" TargetMode="External"/><Relationship Id="rId2" Type="http://schemas.openxmlformats.org/officeDocument/2006/relationships/hyperlink" Target="http://www.studyspanish.com/lessons/serest1.htm" TargetMode="External"/><Relationship Id="rId3" Type="http://schemas.openxmlformats.org/officeDocument/2006/relationships/hyperlink" Target="http://www.quia.com/jg/400520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Ser vs. Estar</a:t>
            </a:r>
            <a:br>
              <a:rPr sz="66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“to be”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a, Pablo, y C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90720" y="380880"/>
            <a:ext cx="723888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l Fin!!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1930320" cy="2828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rcRect l="0" t="0" r="12500" b="6141"/>
          <a:stretch/>
        </p:blipFill>
        <p:spPr>
          <a:xfrm>
            <a:off x="3124080" y="2666880"/>
            <a:ext cx="3016440" cy="2635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400800" y="2514600"/>
            <a:ext cx="2306520" cy="2971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762120" y="5715000"/>
            <a:ext cx="1600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bl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9880" y="5715000"/>
            <a:ext cx="1447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m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705720" y="5791320"/>
            <a:ext cx="16002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ati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ahoma"/>
              </a:rPr>
              <a:t>Ser</a:t>
            </a: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oy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omo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oi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Ser</a:t>
            </a:r>
            <a:br>
              <a:rPr sz="5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ore permanent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cri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g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racteristic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cu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bstance (what it’s made o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s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1981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word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ahoma"/>
              </a:rPr>
              <a:t>Estar</a:t>
            </a: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sto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stá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stá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stamo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stái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stá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st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tion in progress (“-ing”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1752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yword: 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5029200"/>
            <a:ext cx="7315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you feel and where you are, always use the verb es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r examp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ara mí, el argumento es muy origi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my opinion the argument is very origi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s paredes son de plást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alls are made of plast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i amiga y yo somos bonita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friend and I are pret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star examp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bailarina está muy bonita ho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llerina is very pretty to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sotros estamos en Taco B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re at Taco B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actores están muy nervios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ctors are very nervo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r o Estar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jueves a las 3:30 ______ la reunión de Caras y Careta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 miembros ______ estudiantes, profesores y otr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storos ______ muy orgullosos de la obra de estos jóven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nk to Ser o Estar activit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quia.com/rr/520440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studyspanish.com/lessons/serest1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www.quia.com/jg/400520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18:08:56Z</dcterms:created>
  <dc:creator>378-student</dc:creator>
  <dc:description/>
  <dc:language>en-US</dc:language>
  <cp:lastModifiedBy>378-student</cp:lastModifiedBy>
  <dcterms:modified xsi:type="dcterms:W3CDTF">2010-05-27T18:59:00Z</dcterms:modified>
  <cp:revision>3</cp:revision>
  <dc:subject/>
  <dc:title>Ser vs. Estar “to be”</dc:title>
</cp:coreProperties>
</file>